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95A-FCBE-4D30-BF74-882FDCBE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4F9-8808-4254-A49E-35172AF7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034-3422-43C2-A4B0-091B1DED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A10-AA17-4C12-81CC-80184A56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BFDB-1C0A-4F07-9EEE-903442CF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5FC5-0788-4B34-AFC4-4B1711BC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CD42-7B5D-436E-84AC-3B7560E1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0F0D-E069-484C-B036-595793C9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4149-6F0A-42F4-8D41-037FE3A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5633-E9CD-40F4-B6D8-B1621AAF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4C92-3885-49EF-A505-D2948D44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4DF-25A7-43AB-9C38-28218B9B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D49E-EA16-4534-A44A-D873C1B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CC9-C5CE-45C5-9CB4-6A4FC103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1ED4-1B36-45AE-8F55-0282AFB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2BE7-F062-486E-AEE7-91848F4B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33AF-2410-4E83-A782-40F4789C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C70-8A1A-473B-A154-AD429627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788-BEBC-41D2-98CA-E82443D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5B3-B0EA-4B38-8E17-300E6C9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5E4-48FA-4E18-A4A3-81B72C23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B33-9522-4A5B-8A20-47F76ED4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F84-AAE3-4F96-9CF2-B83F59C3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5F2-B767-4A8D-AFB0-1F18547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AB2B-EA9D-4266-A522-DB3A5607D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9466-8E88-483F-8039-F497C927A49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vics and Government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28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AN YOU EXPLAIN THESE TWO CONCEPTS IN YOUR OWN WORDS?  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cause a lot of you didn’t on your homework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direct democracy exists when eligible citizens participate directly in the decision making proces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525492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representative democracy exists when eligible citizens vote for individuals that will in-turn represent their interests in governmen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type of democracy that we have in the United State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titutional Monarc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ype of democracy with a hereditary ruler whose power is limited by the nation’s constitution and law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1841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uthoritarianis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orm of government in which individual freedom is held as completely subordinate to the power or authority of the state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uthoritarianism is centered either in one person or a small group that is not constitutionally accountable to the people. Citizens have the least political voice in an authoritarian system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793800" y="1501920"/>
            <a:ext cx="667368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lated Ter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bsolute Monarchy, Dictatorship, and Totalitarianism are all terms that are closely associated with authoritarianism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-15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rth Kore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e are going to examine the authoritarian state of North Korea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e will read, discuss, and analyze a </a:t>
            </a:r>
            <a:r>
              <a:rPr b="0" lang="en-US" sz="2800" spc="-1" strike="noStrike">
                <a:solidFill>
                  <a:srgbClr val="ff0000"/>
                </a:solidFill>
                <a:latin typeface="Arial Black"/>
              </a:rPr>
              <a:t>CultureGram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 describes the history, society, and government of North Korea and then we will watch National Geographic’s </a:t>
            </a:r>
            <a:r>
              <a:rPr b="0" i="1" lang="en-US" sz="2800" spc="-1" strike="noStrike">
                <a:solidFill>
                  <a:srgbClr val="ffcc00"/>
                </a:solidFill>
                <a:latin typeface="Arial Black"/>
              </a:rPr>
              <a:t>Inside North Korea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601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ivics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ivics is the study of the rights and duties of citizens and the functions and workings of the governmen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b0f0"/>
                </a:solidFill>
                <a:uFillTx/>
                <a:latin typeface="Arial Black"/>
              </a:rPr>
              <a:t>It will also undoubtedly be the highlight of your school day and quite probably the highlight of your academic caree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Government is the power or authority that rules a country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2438280" y="4038480"/>
            <a:ext cx="405936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rposes of 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four primary purposes of government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ke and enforce law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provide servic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maintain ord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guide the commun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760" y="75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vels of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 the United States, there are three levels of government: local, state, and federal (national)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4883040" y="914400"/>
            <a:ext cx="4384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ighest Level of Governmental Authority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ederal (national) government has the highest level of authorit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was established under the United States Constitution and upheld by various Supreme Court rul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rms of Govern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two basic forms of government are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mocra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uthoritarianism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mo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119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mocracy is a form of government in which the people (citizens) hold the power to rule and make laws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 a democracy, the people have the most political voic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209680" y="3457440"/>
            <a:ext cx="4419720" cy="34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Democrac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re are three basic types of democrac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rect Democra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Representative Democrac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stitutional Monarch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12:51:08Z</dcterms:created>
  <dc:creator>Owner</dc:creator>
  <dc:description/>
  <dc:language>en-US</dc:language>
  <cp:lastModifiedBy>SysAdmin</cp:lastModifiedBy>
  <dcterms:modified xsi:type="dcterms:W3CDTF">2011-08-25T19:18:59Z</dcterms:modified>
  <cp:revision>72</cp:revision>
  <dc:subject/>
  <dc:title>What is Civics? </dc:title>
</cp:coreProperties>
</file>